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0B9-9142-4B8E-A711-6F0BD4B5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F3D-69A2-4CB2-9297-B038AF7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95E-0FCF-428A-8504-C5AED81A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142-970D-40B2-916A-A3940608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F56-8A1D-4C5C-BC9B-FB349036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DEA-70C2-4EA5-B594-6A29057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69B-4A59-4F98-B9AF-EF3C340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334-2846-4FB7-BCAB-9B6D1D33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FB4-0973-4B35-A974-2E7E7EA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FEB-D24E-4B7A-8F92-2B8FD40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4E5-884C-43F1-8E6B-A75B3D1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C16-97B5-4DF6-BF83-7013832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51A-6766-4364-A883-4C924D227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009611091685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116000" y="765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.  i  u  ü   y   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936-F16D-4D49-90C3-DD85D9E5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1752480" y="1060560"/>
            <a:ext cx="2376360" cy="2879640"/>
            <a:chOff x="1752480" y="1060560"/>
            <a:chExt cx="2376360" cy="2879640"/>
          </a:xfrm>
        </p:grpSpPr>
        <p:sp>
          <p:nvSpPr>
            <p:cNvPr id="123" name="Line 5"/>
            <p:cNvSpPr/>
            <p:nvPr/>
          </p:nvSpPr>
          <p:spPr>
            <a:xfrm>
              <a:off x="177444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177444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175248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77444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241960" y="1066680"/>
            <a:ext cx="2376360" cy="2880000"/>
            <a:chOff x="5241960" y="1066680"/>
            <a:chExt cx="2376360" cy="2880000"/>
          </a:xfrm>
        </p:grpSpPr>
        <p:sp>
          <p:nvSpPr>
            <p:cNvPr id="128" name="Line 17"/>
            <p:cNvSpPr/>
            <p:nvPr/>
          </p:nvSpPr>
          <p:spPr>
            <a:xfrm>
              <a:off x="5263920" y="298620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5263920" y="394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5241960" y="197640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5263920" y="106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2"/>
          <p:cNvSpPr/>
          <p:nvPr/>
        </p:nvSpPr>
        <p:spPr>
          <a:xfrm>
            <a:off x="5638680" y="1203480"/>
            <a:ext cx="3505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86000" y="3276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209680" y="91440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图片2"/>
          <p:cNvPicPr/>
          <p:nvPr/>
        </p:nvPicPr>
        <p:blipFill>
          <a:blip r:embed="rId2"/>
          <a:srcRect l="0" t="0" r="45797" b="0"/>
          <a:stretch/>
        </p:blipFill>
        <p:spPr>
          <a:xfrm>
            <a:off x="-457200" y="0"/>
            <a:ext cx="2514600" cy="391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2"/>
          <p:cNvPicPr/>
          <p:nvPr/>
        </p:nvPicPr>
        <p:blipFill>
          <a:blip r:embed="rId3"/>
          <a:srcRect l="54210" t="0" r="22794" b="0"/>
          <a:stretch/>
        </p:blipFill>
        <p:spPr>
          <a:xfrm>
            <a:off x="7620120" y="152280"/>
            <a:ext cx="1066680" cy="3915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8"/>
          <p:cNvGrpSpPr/>
          <p:nvPr/>
        </p:nvGrpSpPr>
        <p:grpSpPr>
          <a:xfrm>
            <a:off x="990720" y="4665600"/>
            <a:ext cx="6984720" cy="1584000"/>
            <a:chOff x="990720" y="4665600"/>
            <a:chExt cx="6984720" cy="1584000"/>
          </a:xfrm>
        </p:grpSpPr>
        <p:sp>
          <p:nvSpPr>
            <p:cNvPr id="138" name="Text Box 9"/>
            <p:cNvSpPr/>
            <p:nvPr/>
          </p:nvSpPr>
          <p:spPr>
            <a:xfrm>
              <a:off x="99072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3544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4518000" y="466560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175440" y="4665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1773360" y="510552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 flipV="1">
              <a:off x="3809880" y="4952520"/>
              <a:ext cx="2286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6934320" y="5029200"/>
              <a:ext cx="3808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5334120" y="48895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7040" y="48895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34167 -1.44509E-006 E">
                                      <p:cBhvr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图片3"/>
          <p:cNvPicPr/>
          <p:nvPr/>
        </p:nvPicPr>
        <p:blipFill>
          <a:blip r:embed="rId2"/>
          <a:srcRect l="0" t="0" r="48032" b="0"/>
          <a:stretch/>
        </p:blipFill>
        <p:spPr>
          <a:xfrm>
            <a:off x="0" y="457200"/>
            <a:ext cx="2514600" cy="361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3"/>
          <p:cNvPicPr/>
          <p:nvPr/>
        </p:nvPicPr>
        <p:blipFill>
          <a:blip r:embed="rId3"/>
          <a:srcRect l="55122" t="0" r="22833" b="0"/>
          <a:stretch/>
        </p:blipFill>
        <p:spPr>
          <a:xfrm>
            <a:off x="7620120" y="495360"/>
            <a:ext cx="106668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8"/>
          <p:cNvGrpSpPr/>
          <p:nvPr/>
        </p:nvGrpSpPr>
        <p:grpSpPr>
          <a:xfrm>
            <a:off x="873000" y="4159080"/>
            <a:ext cx="7128000" cy="1557000"/>
            <a:chOff x="873000" y="4159080"/>
            <a:chExt cx="7128000" cy="1557000"/>
          </a:xfrm>
        </p:grpSpPr>
        <p:sp>
          <p:nvSpPr>
            <p:cNvPr id="150" name="Text Box 9"/>
            <p:cNvSpPr/>
            <p:nvPr/>
          </p:nvSpPr>
          <p:spPr>
            <a:xfrm>
              <a:off x="873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60028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329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20064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1994040" y="45720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3867120" y="4427280"/>
              <a:ext cx="21600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5451480" y="43560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559440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732312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278 L 0.27917 0.00278 E">
                                      <p:cBhvr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277 L -0.3125 -0.00277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图片4"/>
          <p:cNvPicPr/>
          <p:nvPr/>
        </p:nvPicPr>
        <p:blipFill>
          <a:blip r:embed="rId2"/>
          <a:srcRect l="0" t="0" r="58103" b="0"/>
          <a:stretch/>
        </p:blipFill>
        <p:spPr>
          <a:xfrm>
            <a:off x="152280" y="485640"/>
            <a:ext cx="1971720" cy="3476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9"/>
          <p:cNvGrpSpPr/>
          <p:nvPr/>
        </p:nvGrpSpPr>
        <p:grpSpPr>
          <a:xfrm>
            <a:off x="7010280" y="533520"/>
            <a:ext cx="1828800" cy="3476520"/>
            <a:chOff x="7010280" y="533520"/>
            <a:chExt cx="1828800" cy="3476520"/>
          </a:xfrm>
        </p:grpSpPr>
        <p:pic>
          <p:nvPicPr>
            <p:cNvPr id="161" name="Picture 6" descr="图片4"/>
            <p:cNvPicPr/>
            <p:nvPr/>
          </p:nvPicPr>
          <p:blipFill>
            <a:blip r:embed="rId3"/>
            <a:srcRect l="50207" t="0" r="10933" b="0"/>
            <a:stretch/>
          </p:blipFill>
          <p:spPr>
            <a:xfrm>
              <a:off x="7010280" y="533520"/>
              <a:ext cx="18288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7"/>
            <p:cNvSpPr/>
            <p:nvPr/>
          </p:nvSpPr>
          <p:spPr>
            <a:xfrm>
              <a:off x="701028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762012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0"/>
          <p:cNvSpPr/>
          <p:nvPr/>
        </p:nvSpPr>
        <p:spPr>
          <a:xfrm>
            <a:off x="4343400" y="1295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1068120" y="4876920"/>
            <a:ext cx="6440400" cy="1628280"/>
            <a:chOff x="1068120" y="4876920"/>
            <a:chExt cx="6440400" cy="1628280"/>
          </a:xfrm>
        </p:grpSpPr>
        <p:sp>
          <p:nvSpPr>
            <p:cNvPr id="166" name="Rectangle 11"/>
            <p:cNvSpPr/>
            <p:nvPr/>
          </p:nvSpPr>
          <p:spPr>
            <a:xfrm>
              <a:off x="106812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10848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445284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293976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828800" y="53118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3822480" y="524340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65720" y="51721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8000" y="51721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6933960" y="509580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1219320" y="4114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见到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擦掉眼泪笑嘻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208 L -0.275 0.00208 E">
                                      <p:cBhvr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244520" y="398520"/>
            <a:ext cx="6984720" cy="1583640"/>
            <a:chOff x="1244520" y="398520"/>
            <a:chExt cx="6984720" cy="1583640"/>
          </a:xfrm>
        </p:grpSpPr>
        <p:sp>
          <p:nvSpPr>
            <p:cNvPr id="177" name="Text Box 5"/>
            <p:cNvSpPr/>
            <p:nvPr/>
          </p:nvSpPr>
          <p:spPr>
            <a:xfrm>
              <a:off x="124452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18924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71800" y="39852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6429240" y="39852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027160" y="8380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4063680" y="685440"/>
              <a:ext cx="22860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188120" y="761760"/>
              <a:ext cx="38088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5587920" y="622080"/>
              <a:ext cx="14292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5730840" y="621720"/>
              <a:ext cx="14436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1025640" y="2209680"/>
            <a:ext cx="7127280" cy="1557000"/>
            <a:chOff x="1025640" y="2209680"/>
            <a:chExt cx="7127280" cy="1557000"/>
          </a:xfrm>
        </p:grpSpPr>
        <p:sp>
          <p:nvSpPr>
            <p:cNvPr id="187" name="Text Box 15"/>
            <p:cNvSpPr/>
            <p:nvPr/>
          </p:nvSpPr>
          <p:spPr>
            <a:xfrm>
              <a:off x="102564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275256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448128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635292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146320" y="2622600"/>
              <a:ext cx="360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4019400" y="2477880"/>
              <a:ext cx="21564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5603760" y="2406600"/>
              <a:ext cx="1425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574668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747540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4"/>
          <p:cNvGrpSpPr/>
          <p:nvPr/>
        </p:nvGrpSpPr>
        <p:grpSpPr>
          <a:xfrm>
            <a:off x="1296720" y="3630600"/>
            <a:ext cx="6440400" cy="1628280"/>
            <a:chOff x="1296720" y="3630600"/>
            <a:chExt cx="6440400" cy="1628280"/>
          </a:xfrm>
        </p:grpSpPr>
        <p:sp>
          <p:nvSpPr>
            <p:cNvPr id="197" name="Rectangle 25"/>
            <p:cNvSpPr/>
            <p:nvPr/>
          </p:nvSpPr>
          <p:spPr>
            <a:xfrm>
              <a:off x="129672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633708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468144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316836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>
              <a:off x="2057400" y="40654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4051080" y="399708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5494320" y="39258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646600" y="39258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7162560" y="384948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8"/>
          <p:cNvGrpSpPr/>
          <p:nvPr/>
        </p:nvGrpSpPr>
        <p:grpSpPr>
          <a:xfrm>
            <a:off x="533520" y="533520"/>
            <a:ext cx="8762400" cy="3809880"/>
            <a:chOff x="533520" y="533520"/>
            <a:chExt cx="8762400" cy="3809880"/>
          </a:xfrm>
        </p:grpSpPr>
        <p:pic>
          <p:nvPicPr>
            <p:cNvPr id="207" name="Picture 4" descr=""/>
            <p:cNvPicPr/>
            <p:nvPr/>
          </p:nvPicPr>
          <p:blipFill>
            <a:blip r:embed="rId2"/>
            <a:srcRect l="6845" t="25349" r="27624" b="13024"/>
            <a:stretch/>
          </p:blipFill>
          <p:spPr>
            <a:xfrm>
              <a:off x="53352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3"/>
            <a:srcRect l="6845" t="25349" r="27624" b="13024"/>
            <a:stretch/>
          </p:blipFill>
          <p:spPr>
            <a:xfrm>
              <a:off x="35049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4"/>
            <a:srcRect l="6845" t="25349" r="27624" b="13024"/>
            <a:stretch/>
          </p:blipFill>
          <p:spPr>
            <a:xfrm>
              <a:off x="64767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8"/>
            <p:cNvSpPr/>
            <p:nvPr/>
          </p:nvSpPr>
          <p:spPr>
            <a:xfrm>
              <a:off x="14475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韵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4193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声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6553080" y="914400"/>
              <a:ext cx="26665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整体认读音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"/>
          <p:cNvSpPr/>
          <p:nvPr/>
        </p:nvSpPr>
        <p:spPr>
          <a:xfrm>
            <a:off x="457200" y="567036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52480" y="567036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438280" y="5638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52680" y="559404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419720" y="556236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019920" y="559404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162920" y="55940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8001000" y="5562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73333 -0.59515 E">
                                      <p:cBhvr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-0.04584 -0.59931 E">
                                      <p:cBhvr>
                                        <p:cTn id="1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988 L 0.22917 -0.61272 E">
                                      <p:cBhvr>
                                        <p:cTn id="14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11792 L -0.1625 -0.56185 E">
                                      <p:cBhvr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6427 L 0.26666 -0.43515 E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L -0.125 -0.45503 E">
                                      <p:cBhvr>
                                        <p:cTn id="16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0.08462 L -0.61666 -0.43977 E">
                                      <p:cBhvr>
                                        <p:cTn id="16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9653E-006 L 3.33333E-006 -0.42174 E">
                                      <p:cBhvr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6877080" y="4022640"/>
            <a:ext cx="863640" cy="1922400"/>
            <a:chOff x="6877080" y="4022640"/>
            <a:chExt cx="863640" cy="1922400"/>
          </a:xfrm>
        </p:grpSpPr>
        <p:sp>
          <p:nvSpPr>
            <p:cNvPr id="50" name="Text Box 9"/>
            <p:cNvSpPr/>
            <p:nvPr/>
          </p:nvSpPr>
          <p:spPr>
            <a:xfrm>
              <a:off x="6877080" y="402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043760" y="458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7475400" y="4581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219400" y="3403440"/>
            <a:ext cx="142920" cy="1092240"/>
            <a:chOff x="2219400" y="3403440"/>
            <a:chExt cx="142920" cy="1092240"/>
          </a:xfrm>
        </p:grpSpPr>
        <p:sp>
          <p:nvSpPr>
            <p:cNvPr id="54" name="Line 3"/>
            <p:cNvSpPr/>
            <p:nvPr/>
          </p:nvSpPr>
          <p:spPr>
            <a:xfrm>
              <a:off x="2286360" y="36320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2330640" y="36194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>
              <a:off x="2219400" y="3403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43800" y="18900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E0B-D53C-45C1-9154-2233BD94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2939103136777801"/>
          <p:cNvPicPr/>
          <p:nvPr/>
        </p:nvPicPr>
        <p:blipFill>
          <a:blip r:embed="rId2"/>
          <a:srcRect l="4168" t="21110" r="64173" b="36669"/>
          <a:stretch/>
        </p:blipFill>
        <p:spPr>
          <a:xfrm>
            <a:off x="380880" y="22860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5"/>
          <p:cNvGrpSpPr/>
          <p:nvPr/>
        </p:nvGrpSpPr>
        <p:grpSpPr>
          <a:xfrm>
            <a:off x="2895480" y="2057400"/>
            <a:ext cx="304920" cy="1854000"/>
            <a:chOff x="2895480" y="2057400"/>
            <a:chExt cx="304920" cy="1854000"/>
          </a:xfrm>
        </p:grpSpPr>
        <p:sp>
          <p:nvSpPr>
            <p:cNvPr id="63" name="Line 11"/>
            <p:cNvSpPr/>
            <p:nvPr/>
          </p:nvSpPr>
          <p:spPr>
            <a:xfrm>
              <a:off x="3017880" y="2541600"/>
              <a:ext cx="0" cy="1369800"/>
            </a:xfrm>
            <a:prstGeom prst="line">
              <a:avLst/>
            </a:prstGeom>
            <a:ln w="165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2895480" y="20574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4800600" y="342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牙齿对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扫描0002"/>
          <p:cNvPicPr/>
          <p:nvPr/>
        </p:nvPicPr>
        <p:blipFill>
          <a:blip r:embed="rId2"/>
          <a:srcRect l="83661" t="7778" r="4903" b="68898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-533520"/>
            <a:ext cx="251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尖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uu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扫描0002"/>
          <p:cNvPicPr/>
          <p:nvPr/>
        </p:nvPicPr>
        <p:blipFill>
          <a:blip r:embed="rId2"/>
          <a:srcRect l="73856" t="62224" r="12256" b="15556"/>
          <a:stretch/>
        </p:blipFill>
        <p:spPr>
          <a:xfrm>
            <a:off x="457200" y="914400"/>
            <a:ext cx="38862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295280" y="228600"/>
            <a:ext cx="2133720" cy="4665600"/>
            <a:chOff x="1295280" y="228600"/>
            <a:chExt cx="2133720" cy="4665600"/>
          </a:xfrm>
        </p:grpSpPr>
        <p:sp>
          <p:nvSpPr>
            <p:cNvPr id="72" name="Text Box 6"/>
            <p:cNvSpPr/>
            <p:nvPr/>
          </p:nvSpPr>
          <p:spPr>
            <a:xfrm>
              <a:off x="1295280" y="228600"/>
              <a:ext cx="21337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u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1547640" y="1496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2743200" y="1523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0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吹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üüü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77" name="Line 13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84" name="Line 25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6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7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9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7"/>
          <p:cNvGrpSpPr/>
          <p:nvPr/>
        </p:nvGrpSpPr>
        <p:grpSpPr>
          <a:xfrm>
            <a:off x="3581280" y="1066680"/>
            <a:ext cx="2376360" cy="2879640"/>
            <a:chOff x="3581280" y="1066680"/>
            <a:chExt cx="2376360" cy="2879640"/>
          </a:xfrm>
        </p:grpSpPr>
        <p:grpSp>
          <p:nvGrpSpPr>
            <p:cNvPr id="91" name="Group 33"/>
            <p:cNvGrpSpPr/>
            <p:nvPr/>
          </p:nvGrpSpPr>
          <p:grpSpPr>
            <a:xfrm>
              <a:off x="3581280" y="1066680"/>
              <a:ext cx="2376360" cy="2879640"/>
              <a:chOff x="3581280" y="1066680"/>
              <a:chExt cx="2376360" cy="2879640"/>
            </a:xfrm>
          </p:grpSpPr>
          <p:sp>
            <p:nvSpPr>
              <p:cNvPr id="92" name="Line 34"/>
              <p:cNvSpPr/>
              <p:nvPr/>
            </p:nvSpPr>
            <p:spPr>
              <a:xfrm>
                <a:off x="3603240" y="2985840"/>
                <a:ext cx="233208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3603240" y="394632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3581280" y="1976040"/>
                <a:ext cx="23540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3603240" y="106668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40"/>
            <p:cNvSpPr/>
            <p:nvPr/>
          </p:nvSpPr>
          <p:spPr>
            <a:xfrm>
              <a:off x="4035240" y="1066680"/>
              <a:ext cx="11462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49"/>
          <p:cNvSpPr/>
          <p:nvPr/>
        </p:nvSpPr>
        <p:spPr>
          <a:xfrm>
            <a:off x="7086600" y="1600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1"/>
          <p:cNvGrpSpPr/>
          <p:nvPr/>
        </p:nvGrpSpPr>
        <p:grpSpPr>
          <a:xfrm>
            <a:off x="6462720" y="1066680"/>
            <a:ext cx="2376360" cy="2879640"/>
            <a:chOff x="6462720" y="1066680"/>
            <a:chExt cx="2376360" cy="2879640"/>
          </a:xfrm>
        </p:grpSpPr>
        <p:grpSp>
          <p:nvGrpSpPr>
            <p:cNvPr id="99" name="Group 48"/>
            <p:cNvGrpSpPr/>
            <p:nvPr/>
          </p:nvGrpSpPr>
          <p:grpSpPr>
            <a:xfrm>
              <a:off x="6462720" y="1066680"/>
              <a:ext cx="2376360" cy="2879640"/>
              <a:chOff x="6462720" y="1066680"/>
              <a:chExt cx="2376360" cy="2879640"/>
            </a:xfrm>
          </p:grpSpPr>
          <p:grpSp>
            <p:nvGrpSpPr>
              <p:cNvPr id="100" name="Group 41"/>
              <p:cNvGrpSpPr/>
              <p:nvPr/>
            </p:nvGrpSpPr>
            <p:grpSpPr>
              <a:xfrm>
                <a:off x="6462720" y="1066680"/>
                <a:ext cx="2376360" cy="2879640"/>
                <a:chOff x="6462720" y="1066680"/>
                <a:chExt cx="2376360" cy="2879640"/>
              </a:xfrm>
            </p:grpSpPr>
            <p:sp>
              <p:nvSpPr>
                <p:cNvPr id="101" name="Line 42"/>
                <p:cNvSpPr/>
                <p:nvPr/>
              </p:nvSpPr>
              <p:spPr>
                <a:xfrm>
                  <a:off x="6484680" y="2985840"/>
                  <a:ext cx="2332080" cy="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3"/>
                <p:cNvSpPr/>
                <p:nvPr/>
              </p:nvSpPr>
              <p:spPr>
                <a:xfrm>
                  <a:off x="6484680" y="394632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4"/>
                <p:cNvSpPr/>
                <p:nvPr/>
              </p:nvSpPr>
              <p:spPr>
                <a:xfrm>
                  <a:off x="6462720" y="1976040"/>
                  <a:ext cx="23540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5"/>
                <p:cNvSpPr/>
                <p:nvPr/>
              </p:nvSpPr>
              <p:spPr>
                <a:xfrm>
                  <a:off x="6484680" y="106668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46"/>
              <p:cNvSpPr/>
              <p:nvPr/>
            </p:nvSpPr>
            <p:spPr>
              <a:xfrm>
                <a:off x="6916680" y="1066680"/>
                <a:ext cx="11462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ff0000"/>
                    </a:solidFill>
                    <a:latin typeface="Arial"/>
                  </a:rPr>
                  <a:t>u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50"/>
            <p:cNvSpPr/>
            <p:nvPr/>
          </p:nvSpPr>
          <p:spPr>
            <a:xfrm>
              <a:off x="7696080" y="1600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2939103136777801"/>
          <p:cNvPicPr/>
          <p:nvPr/>
        </p:nvPicPr>
        <p:blipFill>
          <a:blip r:embed="rId2"/>
          <a:srcRect l="9023" t="66670" r="61669" b="18888"/>
          <a:stretch/>
        </p:blipFill>
        <p:spPr>
          <a:xfrm>
            <a:off x="2971800" y="457200"/>
            <a:ext cx="6934320" cy="25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2939103136777801"/>
          <p:cNvPicPr/>
          <p:nvPr/>
        </p:nvPicPr>
        <p:blipFill>
          <a:blip r:embed="rId3"/>
          <a:srcRect l="54168" t="65563" r="15001" b="20004"/>
          <a:stretch/>
        </p:blipFill>
        <p:spPr>
          <a:xfrm>
            <a:off x="2133720" y="2209680"/>
            <a:ext cx="60195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2939103146777802"/>
          <p:cNvPicPr/>
          <p:nvPr/>
        </p:nvPicPr>
        <p:blipFill>
          <a:blip r:embed="rId4"/>
          <a:srcRect l="15001" t="60007" r="34999" b="20005"/>
          <a:stretch/>
        </p:blipFill>
        <p:spPr>
          <a:xfrm>
            <a:off x="2895480" y="3886200"/>
            <a:ext cx="4953240" cy="196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228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371600" y="53352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46640" y="213372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u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179720" y="373392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066680" y="457200"/>
            <a:ext cx="1600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352680" y="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2010072235458689"/>
          <p:cNvPicPr/>
          <p:nvPr/>
        </p:nvPicPr>
        <p:blipFill>
          <a:blip r:embed="rId3"/>
          <a:srcRect l="7207" t="0" r="76138" b="74459"/>
          <a:stretch/>
        </p:blipFill>
        <p:spPr>
          <a:xfrm>
            <a:off x="533520" y="685800"/>
            <a:ext cx="2057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765000"/>
            <a:ext cx="7056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i    u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  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181480" y="9907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韵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181480" y="3200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5T12:0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